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520-412F-4697-B799-C0B74AD0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088-9698-4D83-9CFD-64EAB76A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B9C-0C4A-48B3-8CE2-3E5F760D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3BE-4AB4-4E6D-9CAC-F54186CD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E55C-1265-49FF-828E-36574AD6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684-4F61-4187-B534-ACD9A3F4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043-B19E-486E-B826-17966112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D4B0-4D8D-41B1-B455-07146786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390-D620-40D1-83D8-842061D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503-0461-43CA-95CD-EACFFED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E07-6AFE-4F64-BDBB-4CEBCBD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B2D-EE3E-428D-ACFE-2880D8E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9610-6C0D-42C9-8B06-487FB22A0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artcat.ru/Referat/itfejramvr.s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Суспільно-географічна регіоналістика Украї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для  студентів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курс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спеціальності  1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Географія, освітньо-професійної програми «Економічна, соціальна географія та регіональний розвиток»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8-й семестр, 4 кредити, 120 год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з яки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20 год. – лекційні занятт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30 год. – практичні занятт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70 год. – самостійна робота студ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Arial"/>
              </a:rPr>
              <a:t>Форма підсумкового контролю: залік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5080" y="5715000"/>
            <a:ext cx="87138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л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андидат географічних 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Кобилін Павло Олексій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Суспільно-географічна регіоналістика як наукова дисцип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343080" y="17524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3c8c93"/>
                </a:solidFill>
                <a:latin typeface="Arial"/>
              </a:rPr>
              <a:t>Регіонознавство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це комплексна, інтегральна соціально-економічна дисципліна, що вивчає закономірності формування та функціонування (включаючи управління) соціально-економічної системи регі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Методологічною основою регіонознавства є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регіоналісти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c8c93"/>
                </a:solidFill>
                <a:latin typeface="Arial"/>
              </a:rPr>
              <a:t>Об’єктом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її дослідження є регіон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c8c93"/>
                </a:solidFill>
                <a:latin typeface="Arial"/>
              </a:rPr>
              <a:t>Предметом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її дослідження є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роцеси формування і функціонування (включаючи управління) соціально-економічних систем регіонів з урахуванням історичних, демографічних, національних, релігійних, екологічних, політико-правових, природно-ресурсних особливостей, місця і ролі у національному та міжнародному поділі прац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Суспільно-географічна регіоналістика як наукова дисцип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266760" y="19051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егіонознавство перебуває у тісному зв’язку з такими близькими науковими дисциплінами, як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країнознавство і краєзнавств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c8c93"/>
                </a:solidFill>
                <a:latin typeface="Arial"/>
              </a:rPr>
              <a:t>Країнознавств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займається комплексним дослідженнями країн, узагальнює і систематизує дані про природу, населення, господарство, культуру і соціальну організаці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c8c93"/>
                </a:solidFill>
                <a:latin typeface="Arial"/>
              </a:rPr>
              <a:t>Краєзнавств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сліджує природу, населення, господарство, історію та культуру окремої частини країни чи населеного пункту головними чином силами амато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оняття, повязані з регіоналісти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29700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3c8c93"/>
                </a:solidFill>
                <a:latin typeface="Arial"/>
              </a:rPr>
              <a:t>Регіоналізація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- у найбільш простому розумінні - поділ території на регіони. Виділення галузевих (компонентних) регіонів здійснюють за просторовим розподілом окремих ознак і компонентів. Інтегральні регіони виділяють за територіальними поєднаннями (комплексами) різних ознак і компонентів (природних, соціальних, економічних тощо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У вітчизняній географії збереглося поняття «районування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3c8c93"/>
                </a:solidFill>
                <a:latin typeface="Arial"/>
              </a:rPr>
              <a:t>Суспільно-географічне районування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(за Ю. Саушкіним) – це поділ країни на частини за поєднанням її природних, трудових, матеріально-технічних ресурсів, характером і спеціалізацією виробництва й виявлення взаємозв’язків цих частин. При районуванні визначається мета, виходячи з якої розробляються принципи та встановлюються критерії районування. Після цього обирається певна система показників, на базі якої здійснюється безпосередня ідентифікація районі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оняття, по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ані з регіоналісти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304920" y="152388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Так існують поняття як «суспільно-географічне районоутворення», «суспільно-географічна районологія», «суспільно-географічне районознавство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3c8c93"/>
                </a:solidFill>
                <a:latin typeface="Arial"/>
              </a:rPr>
              <a:t>Суспільно-географічне районоутворення</a:t>
            </a:r>
            <a:r>
              <a:rPr b="0" lang="uk-UA" sz="23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– це об’єктивний процес формування і розвитку суспільно-географічних районі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3c8c93"/>
                </a:solidFill>
                <a:latin typeface="Arial"/>
              </a:rPr>
              <a:t>Суспільно-географічна районологія</a:t>
            </a:r>
            <a:r>
              <a:rPr b="0" i="1" lang="uk-UA" sz="23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– це вчення про процеси суспільно-географічного районоутворення та методи виділення відповідних районі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3c8c93"/>
                </a:solidFill>
                <a:latin typeface="Arial"/>
              </a:rPr>
              <a:t>Суспільно-географічне районознавство</a:t>
            </a:r>
            <a:r>
              <a:rPr b="0" lang="uk-UA" sz="2300" spc="-1" strike="noStrike">
                <a:solidFill>
                  <a:srgbClr val="3c8c93"/>
                </a:solidFill>
                <a:latin typeface="Arial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– це наука, яка займається вивченням виділених на конкретній території суспільно-географічних районі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онятт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«регіональний розвит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04920" y="1219320"/>
            <a:ext cx="8610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гідно ст. 1 Закону України «Про засади державної регіональної політики» </a:t>
            </a:r>
            <a:r>
              <a:rPr b="1" lang="uk-UA" sz="2200" spc="-1" strike="noStrike">
                <a:solidFill>
                  <a:srgbClr val="3c8c93"/>
                </a:solidFill>
                <a:latin typeface="Arial"/>
              </a:rPr>
              <a:t>регіональний розвиток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– «…процес соціальних, економічних, екологічних, гуманітарних та інших позитивних змін у регіонах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а А. Мельничуком, </a:t>
            </a:r>
            <a:r>
              <a:rPr b="1" lang="uk-UA" sz="2200" spc="-1" strike="noStrike">
                <a:solidFill>
                  <a:srgbClr val="3c8c93"/>
                </a:solidFill>
                <a:latin typeface="Arial"/>
              </a:rPr>
              <a:t>регіональний розвиток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є «…сукупністю позитивних науково обґрунтованих структурних і функціонально-територіальних змін соціально-економічної та екологічної діяльності людей за певний відрізок час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Г.П. Підгрушний </a:t>
            </a:r>
            <a:r>
              <a:rPr b="1" lang="uk-UA" sz="2200" spc="-1" strike="noStrike">
                <a:solidFill>
                  <a:srgbClr val="3c8c93"/>
                </a:solidFill>
                <a:latin typeface="Arial"/>
              </a:rPr>
              <a:t>регіональний розвиток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рактує як комплексний багатомірний структурно трансформаційний процес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.В. Мезенцев – як якісну зміну в часі станів просторової організації людської діяльності у регіонах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А.П. Голіков – як зміну внутрішньої соціально-економічної структур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оняття «район» і «регіо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533520" y="1278000"/>
            <a:ext cx="800100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 географічній науковій літературі термін </a:t>
            </a:r>
            <a:r>
              <a:rPr b="1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«район»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ведений у 1879 р. </a:t>
            </a:r>
            <a:r>
              <a:rPr b="0" i="1" lang="uk-UA" sz="2300" spc="-1" strike="noStrike">
                <a:solidFill>
                  <a:srgbClr val="000000"/>
                </a:solidFill>
                <a:latin typeface="Arial"/>
              </a:rPr>
              <a:t>А.С. Єрмоловим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, який запропонував мережу сільськогосподарських «районів» для Росії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300" spc="-1" strike="noStrike" u="sng">
                <a:solidFill>
                  <a:srgbClr val="000000"/>
                </a:solidFill>
                <a:uFillTx/>
                <a:latin typeface="Arial"/>
              </a:rPr>
              <a:t>Район</a:t>
            </a:r>
            <a:r>
              <a:rPr b="1" i="1" lang="uk-UA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(від франц. </a:t>
            </a:r>
            <a:r>
              <a:rPr b="0" i="1" lang="uk-UA" sz="2300" spc="-1" strike="noStrike">
                <a:solidFill>
                  <a:srgbClr val="000000"/>
                </a:solidFill>
                <a:latin typeface="Arial"/>
              </a:rPr>
              <a:t>rayon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— промінь, радіус) – цілісна територія (акваторія), що характеризується, як правило, спільністю генезису і взаємозв'язком компонентів, </a:t>
            </a:r>
            <a:r>
              <a:rPr b="0" i="1" lang="uk-UA" sz="2300" spc="-1" strike="noStrike">
                <a:solidFill>
                  <a:srgbClr val="000000"/>
                </a:solidFill>
                <a:latin typeface="Arial"/>
              </a:rPr>
              <a:t>є таксономічною одиницею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 в якій-небудь системі територіального розчленування (наприклад, Донецький економічний район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Термін “</a:t>
            </a:r>
            <a:r>
              <a:rPr b="0" i="1" lang="uk-UA" sz="2300" spc="-1" strike="noStrike">
                <a:solidFill>
                  <a:srgbClr val="000000"/>
                </a:solidFill>
                <a:latin typeface="Arial"/>
              </a:rPr>
              <a:t>район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” більш універсальний, менш строгий, має ширший діапазон значень. Нині позначає певні типи регіонів: адміністративний, внутріміський, економічний райо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Поняття «регіон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228600" y="1278000"/>
            <a:ext cx="83059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Термін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«регіон»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перше знаходимо у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«Словнику іноземних слів»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І.Ф. Бурдона і А.Д. Міхельсона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ще в 1877 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егіон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(від лат.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regionis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– область) – територія (акваторія), часто дуже значна за своїми розмірами,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не обов'язково є таксономічною одиницею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в системі якого-небудь територіального розчленування (наприклад, Азіатський регіон, Західноукраїнський регіон і т.д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 радянській науці термін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район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визначався досить «жорстко» і частіше асоціювався з адміністративною сіткою, тоді як термін 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0" i="1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регіон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був більш еластичним. Згодом термін «район» став поступово витіснятися терміном «регіон» як більш строгим у науковому відношен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рім того, термін «регіон» явно переважав у зарубіжній (західній) літератур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Наукові підходи до визначення змісту поняття “регіо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4597a0"/>
                </a:solidFill>
                <a:uFillTx/>
                <a:latin typeface="Arial"/>
              </a:rPr>
              <a:t>Історичний</a:t>
            </a:r>
            <a:r>
              <a:rPr b="1" lang="ru-RU" sz="2400" spc="-1" strike="noStrike" u="sng">
                <a:solidFill>
                  <a:srgbClr val="4597a0"/>
                </a:solidFill>
                <a:uFillTx/>
                <a:latin typeface="Arial"/>
              </a:rPr>
              <a:t> підхі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територія із соціальною спадщиною, історичним досвідом, традиціями мешканці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4597a0"/>
                </a:solidFill>
                <a:uFillTx/>
                <a:latin typeface="Arial"/>
              </a:rPr>
              <a:t>Географічний підхі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територія із сукупністю елементів, що відрізняється від інших територій і має єдність, взаємопов’язаність складових елементів, цілісність (яка є об’єктивною умовою і закономірним результатом розвитку даної території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4597a0"/>
                </a:solidFill>
                <a:uFillTx/>
                <a:latin typeface="Arial"/>
              </a:rPr>
              <a:t>Економічний</a:t>
            </a:r>
            <a:r>
              <a:rPr b="1" lang="ru-RU" sz="2400" spc="-1" strike="noStrike" u="sng">
                <a:solidFill>
                  <a:srgbClr val="4597a0"/>
                </a:solidFill>
                <a:uFillTx/>
                <a:latin typeface="Arial"/>
              </a:rPr>
              <a:t> підхі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– економічний рай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господарська територія з визначеною спеціалізацією і структурою господарювання, природними і трудовими ресур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217440" y="1447920"/>
            <a:ext cx="830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1744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Наукові підходи до визначення змісту поняття “регіо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4597a0"/>
                </a:solidFill>
                <a:uFillTx/>
                <a:latin typeface="Arial"/>
              </a:rPr>
              <a:t>Регіонально-економічний</a:t>
            </a:r>
            <a:r>
              <a:rPr b="1" lang="ru-RU" sz="2400" spc="-1" strike="noStrike" u="sng">
                <a:solidFill>
                  <a:srgbClr val="4597a0"/>
                </a:solidFill>
                <a:uFillTx/>
                <a:latin typeface="Arial"/>
              </a:rPr>
              <a:t> підхі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формована у межах певної природно-географічної території соціально-економічна система із певною спеціалізацією і структурою господарства, міжрегіональними і зовнішніми економічними, політичними і культурними зв’язками, що має органи державної влади і місцевого самоврядування, у межах яких формується територіальна спільність із властивими їй місцевими інтере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4597a0"/>
                </a:solidFill>
                <a:uFillTx/>
                <a:latin typeface="Arial"/>
              </a:rPr>
              <a:t>Геополітичний</a:t>
            </a:r>
            <a:r>
              <a:rPr b="1" lang="ru-RU" sz="2400" spc="-1" strike="noStrike" u="sng">
                <a:solidFill>
                  <a:srgbClr val="4597a0"/>
                </a:solidFill>
                <a:uFillTx/>
                <a:latin typeface="Arial"/>
              </a:rPr>
              <a:t> підхі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групи сусідніх країн, близьких за національним складом і культурою мешканців або однотипних за суспільно-політичним устроє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217440" y="1447920"/>
            <a:ext cx="830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1744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Наукові підходи до визначення змісту поняття “регіо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3c8c93"/>
                </a:solidFill>
                <a:uFillTx/>
                <a:latin typeface="Arial"/>
              </a:rPr>
              <a:t>Політико-правовий</a:t>
            </a:r>
            <a:r>
              <a:rPr b="1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 підхі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адміністративно-територіальне утворення визначеної субнаціональної одиниц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инонім термінів «область» і «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3c8c93"/>
                </a:solidFill>
                <a:uFillTx/>
                <a:latin typeface="Arial"/>
              </a:rPr>
              <a:t>Геосистемний</a:t>
            </a:r>
            <a:r>
              <a:rPr b="1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 підхі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егіо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– складна соціально-економічна система, яка функціонує на єдиній, відносно великій території, що має яскраво виражений системоформуючий центр – найбільше місто зі столичними функці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Сформовані в останній третині XX століття підходи до визначення змісту поняття «регіон» засвідчують, що воно стало міждисциплінарним, багатоаспектним і в кожному випадку залежним від цілей, у зв'язку з якими сформульо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217440" y="1447920"/>
            <a:ext cx="830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План лекці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Мета, завдання, результати навчання дисциплі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Суспільно-географічна регіоналістика як наукова дисциплі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Поняття, повязані з регіоналістико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Поняття «район» і «регіон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Наукові підходи до визначення змісту поняття «регіон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52280" y="198360"/>
            <a:ext cx="883944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Calibri"/>
              </a:rPr>
              <a:t>ЛЕКЦІЯ №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  <a:ea typeface="Calibri"/>
              </a:rPr>
              <a:t>СУСПІЛЬНО-ГЕОГРАФІЧНА РЕГІОНАЛІСТИКА ЯК НАУКОВА ДИСЦИПЛІ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1744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Наукові підходи до визначення змісту поняття “регіо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тже, універсального визначення регіону, «на всі випадки життя», так і не було створен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днак поняття «регіон» повинно мати не тільки економічне, але й правове підґрунт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Наприклад, у статті 132 Конституції України зазначено, що однією із засад, на якій ґрунтується територіальний устрій України, є збалансованість соціально-економічного розвитку регіо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Сформоване на початок XXI ст. знання про регіон не відповідає вимогам сьогодення. У старій парадигмі науки господарство досліджувалося в основному під кутом зору соціальних функцій виробничо-трудової сфери. Населення розглядалося, як правило, ізольовано від економічні діяльності, і дуже часто навіть управлінсько-організаційна діяльність тлумачилася як другорядна. Це не дає можливості говорити про регіон як про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живий соціально-економічний феномен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 і про такі елементи в його структурі, як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поля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217440" y="1447920"/>
            <a:ext cx="830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1744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Отримання нових теоретичних знань про регіон як про живу соціально-економічну систему можливе лише в рамках нової парадигми науки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 – еволюційно-синергетичної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, розробка якої особливо активізувалася в останньому десятиріччі XX столітт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В усіх галузях знань простежуються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подібні риси нової парадиг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: гармонія між людиною і довкіллям (природним, техногенним і соціальним), визнання у структурі об'єктів, процесів, явищ щільної і тонкої матерії як таких, що взаємопроникають і взаємодоповнюють одна од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Обмеженість сучасних економіко-правових поглядів на регіон виявляється в тому, що вони охоплюють лише фізичну (щільну) складову його реальності як складної суспільної територіальної системи, нехтуючи іншою складовою (тонкою) –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соціально-економічним полем регіону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c8c93"/>
                </a:solidFill>
                <a:latin typeface="Arial"/>
              </a:rPr>
              <a:t>Регіон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ає розумітися за наступною схемою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) як складна соціально-економічна система, що має двояку будову: складні системні об'єкти і соціально-економічне поле регіон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) як економіко-правова ланка національного господарського комплексу країни і глобальної економічної систе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217440" y="1447920"/>
            <a:ext cx="830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, завдання, результати навчання дисциплі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228600" y="1981080"/>
            <a:ext cx="84582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 викладання навчальної дисциплін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вивчення теоретичних засад регіональних досліджень та ознайомлення з особливостями регіонального розвитку та політики в Україні на сучасному етап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343080" y="380880"/>
            <a:ext cx="845820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і завдання вивчення дисципліни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характеризувати понятійно-термінологічний апарат регіоналістики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характеризувати класифікації, ієрархію регіонів, фактори регіоналізм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аналізувати концепції та теорії регіонального розвитк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ивчити особливості програмування та прогнозування економічного та соціального розвитку регіон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ознайомитися із принципами і методами суспільно-географічного районування, схемами регіоналізації території Украї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лідити особливості соціально-економічного і екологічного розвитку регіонів Украї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аналізувати проблеми регіональної політики, децентралізації влади, удосконалення адміністративно-територіального устрою в Украї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43080" y="380880"/>
            <a:ext cx="8458200" cy="72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гідно з вимогами освітньо-професійної програми студенти повинні досягти таких </a:t>
            </a:r>
            <a:r>
              <a:rPr b="1" i="1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ів навчання</a:t>
            </a:r>
            <a:r>
              <a:rPr b="1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ти:</a:t>
            </a:r>
            <a:r>
              <a:rPr b="0" i="1" lang="uk-UA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утність понять регіоналістики, співвідношення понять «регіон», «ареал», «антиареал, «зона», «полігон» та інших понят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укові підходи до визначення змісту поняття «регіон», його класифікації, ієрархічні рівні, фактори регіоналізм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ії і концепції регіонального розвитку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міст документів програм економічного і соціального розвитку регіонів, етапи створення програм (стратегій) регіонального розвитку, види прогнозів регіонального розвитк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и і методи суспільно-географічного районування, схеми регіоналізації території України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міст поняття «регіональна політика», об’єктів і суб’єктів регіональної політики, завдання, напрями державної регіональної політики, суспільно-географічні засади регіональної політик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адміністративно-територіальний устрій України, сутність та види децентралізації влади в Україні, хід просування адміністративно-територіальної реформи в Україні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одавчу базу регіонального розвитку в Україні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76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43080" y="533520"/>
            <a:ext cx="8458200" cy="65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Згідно з вимогами освітньо-професійної програми студенти повинні досягти таких </a:t>
            </a:r>
            <a:r>
              <a:rPr b="1" i="1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ів навчання</a:t>
            </a:r>
            <a:r>
              <a:rPr b="1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міт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тосовувати теорії і концепції регіонального розвитку у суспільно-географічних дослідженнях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цювати з документами програм економічного і соціального розвитку регіонів, визначати спільні та відмінні рис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начати спеціалізацію промислового виробництва регіонів Україн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нувати власні схеми регіоналізації Україн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ізувати територіальну диференціацію соціально-економічного розвитку та екологічних проблем регіонів Україн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здійснювати комплексний суспільно-географічний аналіз регіонів України та визначати проблеми і перспективи їх розвитк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Symbol" charset="2"/>
              <a:buChar char="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2. Суспільно-географічна регіоналістика як наукова дисцип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343080" y="1752480"/>
            <a:ext cx="84582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Регіоналістика (регіональна наука)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 – це міждисциплінарна наука, що вивчає об'єктивні процеси регіоналізації (географічної, політичної, економічної, культурної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Також регіоналістика є наукою про регіони та вивчає просторові виміри соціальних, економічних, політичних та поведінкових явищ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егіональна наука є полем соціальних наук, пов'язаних з аналітичними підходами до вивчення міських, сільських чи регіональних пробле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Засновником регіональної науки (регіоналістики) є американський економіст і географ Волтер Айзар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Суспільно-географічна регіоналістика як наукова дисцип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343080" y="1752480"/>
            <a:ext cx="8458200" cy="39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На думку В. Айзарда, у найширшому сенсі будь-яка соціальна наука аналізу, яка має просторовий вимір - це регіональна наука. Регіональна наука пропонує урядовим органам керівні вказівки з таких питань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ромислова локація (як у межах країни та регіону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егіональний економічний вплив від прибуття чи вибуття фірм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руктура та зміни у землекористуванні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егіональна спеціалізація та обмін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екологічні наслідки соціально-економічних змін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географічні асоціації економічних та соціальних ум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. Суспільно-географічна регіоналістика як наукова дисциплі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343080" y="1752480"/>
            <a:ext cx="84582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егіоналістика відображує синтез підходів різних наук до регіональних досліджень. На думку географа А. Г. Ісаченка, регіоналістика замислювалася як вчення, що об'єднує такі напрямк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3c8c93"/>
                </a:solidFill>
                <a:latin typeface="Arial"/>
              </a:rPr>
              <a:t>Районістика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редметом якої, за задумом засновників, повинна служити розробка загальних принципів і методів систематизації шляхом районуванн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3c8c93"/>
                </a:solidFill>
                <a:latin typeface="Arial"/>
              </a:rPr>
              <a:t>Регіонознавство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за задумом його ініціаторів має вивчати специфіку розвитку цілісних регіонів у найрізноманітніших аспектах — від природних до етноконфесійни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а також ряд інших напрямків в науках, що мають справу з районуванням і вивченням районі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вел Кобылин</cp:lastModifiedBy>
  <dcterms:modified xsi:type="dcterms:W3CDTF">2024-02-13T09:34:20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