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1D2-4A1E-437C-8A4D-14916510C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4F5-A87C-4375-989B-387C89CB7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070-5306-4167-983A-FF32C24C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339-ED0A-4659-90BE-83B9C36F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D15-DD65-4A31-A4CB-6652F1E6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4C8-6674-4753-B43D-6F89B895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B50-5470-4B95-A62D-51060F52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E69-24FA-46BF-88A2-0983768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9B9-5481-491D-BE02-49FD06F4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1B1-DAA7-4CD7-832A-AA7C9F14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BF9-746D-4452-A5BA-1F791D1C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56B-ACBC-485F-8BDB-A9927C09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766-8093-4187-9ECB-6CF7C94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607-A983-4C1E-9C0F-B7B63312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9A70-2CDF-48DE-BD79-7213A9D9C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Географія торгівл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ля  студенті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курс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спеціальності  1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Географія, освітньо-професійної програми «Економічна, соціальна географія та регіональний розвиток»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7-й семестр, 4 кредити, 120 год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 як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48 год. – лекційні занятт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24 год. – практичні занятт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48 год. – самостійна робота студен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Arial"/>
              </a:rPr>
              <a:t>Форма підсумкового контролю: екзамен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35080" y="5715000"/>
            <a:ext cx="87138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л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андидат географічних 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обилін Павло Олексій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ок географії торгівлі з інш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66760" y="1546200"/>
            <a:ext cx="8458200" cy="59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еографія торгівл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око пов’язана з комерційною географією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досліджує просторові аспекти формування товарних ресурсів торгівлі), товарознавством продовольчих і непродовольчих товарів, економікою та організацією торгівлі, статистикою, логістико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 комплексу географічних дисциплін вона пов’язана з теорією суспільної географії, географією промисловості, географією АПК, географією транспорту, географією населення, соціальною географією, економічною картографією, містобудуванням, районним плануванням, соціологією тощ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ісц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еографії торгівлі в системі суспільно-географічних на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80880" y="2090880"/>
            <a:ext cx="811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. Голіков, Я. Олійник, А. Степаненко в структурі економічної і соціальної географії виділяю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алузеві, комплексні, галузево-комплексні та регіональні науки. Так, до галузевих наук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кономічного спрямув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ідносяться «Географія споживання», «Географія обслуговування»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Географія торгівлі», «Географія інфраструктур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г1"/>
          <p:cNvPicPr/>
          <p:nvPr/>
        </p:nvPicPr>
        <p:blipFill>
          <a:blip r:embed="rId1"/>
          <a:stretch/>
        </p:blipFill>
        <p:spPr>
          <a:xfrm>
            <a:off x="1528920" y="228600"/>
            <a:ext cx="6086160" cy="515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Box 5"/>
          <p:cNvSpPr/>
          <p:nvPr/>
        </p:nvSpPr>
        <p:spPr>
          <a:xfrm>
            <a:off x="1295280" y="579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а економічної і соціальної географії за А. Голіковим, Я. Олійником, А. Степанен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3581280" y="3505320"/>
            <a:ext cx="9144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380880" y="304920"/>
            <a:ext cx="838224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. Пістун виділяє у складі суспільної географії декілька основних ядер: економічну, соціальну, політичну та теоретичну, які поєднують галузеві та регіональні суспільно-географічні дисципліни. Система торговельного обслуговування населення належить до галузей «Географія сфери обслуговування і споживання» (19), яка є галузевою складовою соціальної географії та «Географія інфраструктури» (28), яку виділено як самостійну галузь суспільної географ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іншою класифікацією М. Пістуна «Географія сфери обслуговування» та «Географія торгівлі» належать до аналітичних (галузевих) дисциплін, соціальна географія як галузь не виділяє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п2"/>
          <p:cNvPicPr/>
          <p:nvPr/>
        </p:nvPicPr>
        <p:blipFill>
          <a:blip r:embed="rId1"/>
          <a:stretch/>
        </p:blipFill>
        <p:spPr>
          <a:xfrm>
            <a:off x="1833480" y="303120"/>
            <a:ext cx="5477040" cy="5924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4" name="TextBox 4"/>
          <p:cNvSpPr/>
          <p:nvPr/>
        </p:nvSpPr>
        <p:spPr>
          <a:xfrm>
            <a:off x="2066760" y="6218280"/>
            <a:ext cx="50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а суспільної географії за М. Пісту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"/>
          <p:cNvSpPr/>
          <p:nvPr/>
        </p:nvSpPr>
        <p:spPr>
          <a:xfrm>
            <a:off x="5715000" y="5257800"/>
            <a:ext cx="1447920" cy="152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041560" y="5410080"/>
            <a:ext cx="1996920" cy="152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5749920" y="5821200"/>
            <a:ext cx="1447920" cy="152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2041560" y="6019920"/>
            <a:ext cx="777960" cy="19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п3"/>
          <p:cNvPicPr/>
          <p:nvPr/>
        </p:nvPicPr>
        <p:blipFill>
          <a:blip r:embed="rId1"/>
          <a:stretch/>
        </p:blipFill>
        <p:spPr>
          <a:xfrm>
            <a:off x="1981080" y="152280"/>
            <a:ext cx="5181840" cy="5554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0" name="TextBox 4"/>
          <p:cNvSpPr/>
          <p:nvPr/>
        </p:nvSpPr>
        <p:spPr>
          <a:xfrm>
            <a:off x="2438280" y="5726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а суспільно-географічних дисциплін за М. Пісту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2133720" y="4038480"/>
            <a:ext cx="167616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419040" y="304920"/>
            <a:ext cx="8305920" cy="62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. Степаненко в структурі соціальної географії виділяв підсистему «Географія сервісу або географія сфери послуг», що поєднує такі суспільно-географічні галузі, як: географія освіти, географія торгівлі і громадського харчування, географія побуту, географія житлово-комунального господарства, географія охорони здоров’я, географія фітнесу і розваг, географія споживання і рекреаційна географ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. Шевчук позиціонує географічну науку як «Географію Людини» та виділяє в її межах «Географії суспільства» («Географію власне Людини»), яку поділяє на соціальну, економічну та політичну географію. Соціальна географія, за Л. Шевчук, включає галузь «Географія побуту і торгівлі», яка в свою чергу включає систему торговельного обслуговування насел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4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5362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932040" y="5715360"/>
            <a:ext cx="6747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а суспільно-географічних дисциплін з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евчу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5562720" y="2362320"/>
            <a:ext cx="27432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304920" y="79704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структурі супільної географії О. Шаблій виділяє географію споживання та географію сфери послуг, підсистемою якої є система торговельного обслуговування населення, до групи «А» –  соціальної географії. Географія сфери послуг є галузевою складовою блоку основних дисциплін, що визначає вагомість її ролі у розвитку суспільно-географічної науки та свідчить про важливе значення у життєдіяльності насе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47" descr=""/>
          <p:cNvPicPr/>
          <p:nvPr/>
        </p:nvPicPr>
        <p:blipFill>
          <a:blip r:embed="rId1"/>
          <a:stretch/>
        </p:blipFill>
        <p:spPr>
          <a:xfrm>
            <a:off x="596880" y="914400"/>
            <a:ext cx="8156520" cy="4203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90720" y="5209200"/>
            <a:ext cx="71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асифікація суспільно-географічних дисциплін за О. Шабліє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План лекці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Зміст, об'єкт, предмет географії торгівл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міст, об'єкт, предмет маркетингової географі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Аспекти географії торгівлі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в’язок географії торгівлі з іншими наука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ісце географії торгівлі в системі суспільно-географічних нау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Методи дослідження географії торгівлі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2280" y="198360"/>
            <a:ext cx="883944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Calibri"/>
              </a:rPr>
              <a:t>ЛЕКЦІЯ №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Calibri"/>
              </a:rPr>
              <a:t>ГЕОГРАФІЯ ТОРГІВЛІ ЯК НАВЧАЛЬНА ДИСЦИПЛІ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343080" y="533520"/>
            <a:ext cx="8458200" cy="55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О. Мамчур географію торгівлі відносить до географії ринкової інфраструктури, яка є специфічним підтипом географії інфраструктури, сформованої на стику економічної та соціальної географії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У залежності від підходу різні вчені відводять географії торговельного обслуговування специфічну роль і місце в системі суспільно-географічних наук. Вивчення окремих аспектів системи торговельного обслуговування населення лежить в об’єктно-предметному полі дослідження географії сфери послуг, географії обслуговування, географії сервісної діяльності, географії сфери обслуговування і споживання, географії споживання, географії інфраструктури, географії торгівлі, географії побуту і торгівлі, комерційної та  маркетингової географії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181"/>
          <p:cNvGrpSpPr/>
          <p:nvPr/>
        </p:nvGrpSpPr>
        <p:grpSpPr>
          <a:xfrm>
            <a:off x="1500120" y="228600"/>
            <a:ext cx="5662800" cy="6119640"/>
            <a:chOff x="1500120" y="228600"/>
            <a:chExt cx="5662800" cy="6119640"/>
          </a:xfrm>
        </p:grpSpPr>
        <p:sp>
          <p:nvSpPr>
            <p:cNvPr id="93" name="Прямоугольник 81"/>
            <p:cNvSpPr/>
            <p:nvPr/>
          </p:nvSpPr>
          <p:spPr>
            <a:xfrm>
              <a:off x="1500120" y="228600"/>
              <a:ext cx="5662800" cy="37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истема торговельного обслуговування населе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оугольник 82"/>
            <p:cNvSpPr/>
            <p:nvPr/>
          </p:nvSpPr>
          <p:spPr>
            <a:xfrm>
              <a:off x="2027160" y="750600"/>
              <a:ext cx="2633760" cy="104112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спожива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обслуговува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торгівлі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інфраструктур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оугольник 83"/>
            <p:cNvSpPr/>
            <p:nvPr/>
          </p:nvSpPr>
          <p:spPr>
            <a:xfrm>
              <a:off x="2027160" y="1898640"/>
              <a:ext cx="2633760" cy="92232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сфери обслуговування і спожива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інфраструктур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торгівл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ик 86"/>
            <p:cNvSpPr/>
            <p:nvPr/>
          </p:nvSpPr>
          <p:spPr>
            <a:xfrm>
              <a:off x="2044440" y="2965320"/>
              <a:ext cx="2624040" cy="60624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сервісу або географія сфери послуг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оугольник 87"/>
            <p:cNvSpPr/>
            <p:nvPr/>
          </p:nvSpPr>
          <p:spPr>
            <a:xfrm>
              <a:off x="2044440" y="3668760"/>
              <a:ext cx="2624040" cy="60624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побуту і торгівл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оугольник 88"/>
            <p:cNvSpPr/>
            <p:nvPr/>
          </p:nvSpPr>
          <p:spPr>
            <a:xfrm>
              <a:off x="2035080" y="4344840"/>
              <a:ext cx="2633760" cy="60624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сфери послуг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еографія спожива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89"/>
            <p:cNvSpPr/>
            <p:nvPr/>
          </p:nvSpPr>
          <p:spPr>
            <a:xfrm>
              <a:off x="2035080" y="5030640"/>
              <a:ext cx="2633760" cy="60624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Комерційна географі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90"/>
            <p:cNvSpPr/>
            <p:nvPr/>
          </p:nvSpPr>
          <p:spPr>
            <a:xfrm>
              <a:off x="2035080" y="5742000"/>
              <a:ext cx="2633760" cy="60624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аркетингова географі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91"/>
            <p:cNvSpPr/>
            <p:nvPr/>
          </p:nvSpPr>
          <p:spPr>
            <a:xfrm>
              <a:off x="4924440" y="750600"/>
              <a:ext cx="2176560" cy="104112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Голіков А.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Олійник Я.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тепаненко 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92"/>
            <p:cNvSpPr/>
            <p:nvPr/>
          </p:nvSpPr>
          <p:spPr>
            <a:xfrm>
              <a:off x="4924440" y="1898640"/>
              <a:ext cx="2176560" cy="92232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істун М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95"/>
            <p:cNvSpPr/>
            <p:nvPr/>
          </p:nvSpPr>
          <p:spPr>
            <a:xfrm>
              <a:off x="4932360" y="2965320"/>
              <a:ext cx="2185920" cy="60624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тепаненко 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96"/>
            <p:cNvSpPr/>
            <p:nvPr/>
          </p:nvSpPr>
          <p:spPr>
            <a:xfrm>
              <a:off x="4932360" y="3668760"/>
              <a:ext cx="2185920" cy="60624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Шевчук Л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97"/>
            <p:cNvSpPr/>
            <p:nvPr/>
          </p:nvSpPr>
          <p:spPr>
            <a:xfrm>
              <a:off x="4932360" y="4344840"/>
              <a:ext cx="2178000" cy="60624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Шаблій 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Топчієв 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98"/>
            <p:cNvSpPr/>
            <p:nvPr/>
          </p:nvSpPr>
          <p:spPr>
            <a:xfrm>
              <a:off x="4932360" y="5030640"/>
              <a:ext cx="2178000" cy="60624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Чизхольм Г.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Жук М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рямоугольник 99"/>
            <p:cNvSpPr/>
            <p:nvPr/>
          </p:nvSpPr>
          <p:spPr>
            <a:xfrm>
              <a:off x="4932360" y="5742000"/>
              <a:ext cx="2178000" cy="60624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Черномаз П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ая соединительная линия 123"/>
            <p:cNvSpPr/>
            <p:nvPr/>
          </p:nvSpPr>
          <p:spPr>
            <a:xfrm>
              <a:off x="1500120" y="553680"/>
              <a:ext cx="8640" cy="561888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Стрелка вправо 124"/>
            <p:cNvSpPr/>
            <p:nvPr/>
          </p:nvSpPr>
          <p:spPr>
            <a:xfrm>
              <a:off x="1500120" y="1185840"/>
              <a:ext cx="527040" cy="193680"/>
            </a:xfrm>
            <a:prstGeom prst="rightArrow">
              <a:avLst>
                <a:gd name="adj1" fmla="val 50000"/>
                <a:gd name="adj2" fmla="val 4995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Стрелка вправо 125"/>
            <p:cNvSpPr/>
            <p:nvPr/>
          </p:nvSpPr>
          <p:spPr>
            <a:xfrm>
              <a:off x="1509480" y="2259000"/>
              <a:ext cx="525240" cy="193680"/>
            </a:xfrm>
            <a:prstGeom prst="rightArrow">
              <a:avLst>
                <a:gd name="adj1" fmla="val 50000"/>
                <a:gd name="adj2" fmla="val 4993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Стрелка вправо 128"/>
            <p:cNvSpPr/>
            <p:nvPr/>
          </p:nvSpPr>
          <p:spPr>
            <a:xfrm>
              <a:off x="1509480" y="3219480"/>
              <a:ext cx="525240" cy="193680"/>
            </a:xfrm>
            <a:prstGeom prst="rightArrow">
              <a:avLst>
                <a:gd name="adj1" fmla="val 50000"/>
                <a:gd name="adj2" fmla="val 4993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Стрелка вправо 129"/>
            <p:cNvSpPr/>
            <p:nvPr/>
          </p:nvSpPr>
          <p:spPr>
            <a:xfrm>
              <a:off x="1517400" y="3878280"/>
              <a:ext cx="527040" cy="193680"/>
            </a:xfrm>
            <a:prstGeom prst="rightArrow">
              <a:avLst>
                <a:gd name="adj1" fmla="val 50000"/>
                <a:gd name="adj2" fmla="val 4995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Стрелка вправо 130"/>
            <p:cNvSpPr/>
            <p:nvPr/>
          </p:nvSpPr>
          <p:spPr>
            <a:xfrm>
              <a:off x="1517400" y="4494240"/>
              <a:ext cx="527040" cy="193680"/>
            </a:xfrm>
            <a:prstGeom prst="rightArrow">
              <a:avLst>
                <a:gd name="adj1" fmla="val 50000"/>
                <a:gd name="adj2" fmla="val 4995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Стрелка вправо 131"/>
            <p:cNvSpPr/>
            <p:nvPr/>
          </p:nvSpPr>
          <p:spPr>
            <a:xfrm>
              <a:off x="1517400" y="5232240"/>
              <a:ext cx="527040" cy="193680"/>
            </a:xfrm>
            <a:prstGeom prst="rightArrow">
              <a:avLst>
                <a:gd name="adj1" fmla="val 50000"/>
                <a:gd name="adj2" fmla="val 4995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Стрелка вправо 132"/>
            <p:cNvSpPr/>
            <p:nvPr/>
          </p:nvSpPr>
          <p:spPr>
            <a:xfrm>
              <a:off x="1509480" y="6075360"/>
              <a:ext cx="525240" cy="193680"/>
            </a:xfrm>
            <a:prstGeom prst="rightArrow">
              <a:avLst>
                <a:gd name="adj1" fmla="val 50000"/>
                <a:gd name="adj2" fmla="val 4993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Стрелка вправо 133"/>
            <p:cNvSpPr/>
            <p:nvPr/>
          </p:nvSpPr>
          <p:spPr>
            <a:xfrm>
              <a:off x="4660920" y="1185840"/>
              <a:ext cx="271440" cy="193680"/>
            </a:xfrm>
            <a:prstGeom prst="rightArrow">
              <a:avLst>
                <a:gd name="adj1" fmla="val 50000"/>
                <a:gd name="adj2" fmla="val 4994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Стрелка вправо 134"/>
            <p:cNvSpPr/>
            <p:nvPr/>
          </p:nvSpPr>
          <p:spPr>
            <a:xfrm>
              <a:off x="4668840" y="2259000"/>
              <a:ext cx="272880" cy="193680"/>
            </a:xfrm>
            <a:prstGeom prst="rightArrow">
              <a:avLst>
                <a:gd name="adj1" fmla="val 50000"/>
                <a:gd name="adj2" fmla="val 49919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Стрелка вправо 137"/>
            <p:cNvSpPr/>
            <p:nvPr/>
          </p:nvSpPr>
          <p:spPr>
            <a:xfrm>
              <a:off x="4668840" y="3219480"/>
              <a:ext cx="272880" cy="193680"/>
            </a:xfrm>
            <a:prstGeom prst="rightArrow">
              <a:avLst>
                <a:gd name="adj1" fmla="val 50000"/>
                <a:gd name="adj2" fmla="val 49919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Стрелка вправо 138"/>
            <p:cNvSpPr/>
            <p:nvPr/>
          </p:nvSpPr>
          <p:spPr>
            <a:xfrm>
              <a:off x="4678560" y="3878280"/>
              <a:ext cx="271440" cy="193680"/>
            </a:xfrm>
            <a:prstGeom prst="rightArrow">
              <a:avLst>
                <a:gd name="adj1" fmla="val 50000"/>
                <a:gd name="adj2" fmla="val 4994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Стрелка вправо 139"/>
            <p:cNvSpPr/>
            <p:nvPr/>
          </p:nvSpPr>
          <p:spPr>
            <a:xfrm>
              <a:off x="4678560" y="4494240"/>
              <a:ext cx="271440" cy="193680"/>
            </a:xfrm>
            <a:prstGeom prst="rightArrow">
              <a:avLst>
                <a:gd name="adj1" fmla="val 50000"/>
                <a:gd name="adj2" fmla="val 4994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Стрелка вправо 140"/>
            <p:cNvSpPr/>
            <p:nvPr/>
          </p:nvSpPr>
          <p:spPr>
            <a:xfrm>
              <a:off x="4678560" y="5232240"/>
              <a:ext cx="271440" cy="193680"/>
            </a:xfrm>
            <a:prstGeom prst="rightArrow">
              <a:avLst>
                <a:gd name="adj1" fmla="val 50000"/>
                <a:gd name="adj2" fmla="val 4994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Стрелка вправо 141"/>
            <p:cNvSpPr/>
            <p:nvPr/>
          </p:nvSpPr>
          <p:spPr>
            <a:xfrm>
              <a:off x="4668840" y="6075360"/>
              <a:ext cx="272880" cy="193680"/>
            </a:xfrm>
            <a:prstGeom prst="rightArrow">
              <a:avLst>
                <a:gd name="adj1" fmla="val 50000"/>
                <a:gd name="adj2" fmla="val 49919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Методи дослідження географії торгів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0" y="1523880"/>
            <a:ext cx="86868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2860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Метод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у перекладі з грецької - це спосіб досягнення якої-небудь мети, сукупність прийомів або операцій практичного або теоретичного пізнання дійсності. Під методом дослідження розуміють підходи до досліджен­ня, а також особливі прийоми і саму методику дослід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дослідження залежить насамперед від об'єкта науки та її предмета. Оскільки предметом географії торгівлі є вивчення просторових аспектів торго­вельної діяльності, то в ньому повинні бути як загальні методи, характерні для суспільної географії, так і специфічн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23920" y="353880"/>
            <a:ext cx="868680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286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рім того, метод дослідження залежати­ме й від того, яка сторона торговельної діяльності вивчається. Наприклад, ви­вчення просторових аспектів формування товарних ресурсів торгівлі потребує одних методів дослідження, а, скажімо, вивчення шляхів просування товарів на ринку - інши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основних загальнонаукових методів належать 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­ний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який передбачає цілісний підхід до об’єктів і предметів дослідження, їх прогнозування, планування. Сучасна торгівля є порівняно цілісним системно-структурним утворенням із чітко вираженими функціями й організаціє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чно системне дослідження передбачає такі етап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) встановлення цілісності систем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б) її структуризацію, тобто виділення її компонентів та еле­менті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) кількісну характеристику на основі попереднього якісного визначен­н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г) оптимізацію систе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lnSpc>
                <a:spcPct val="107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"/>
          <p:cNvSpPr/>
          <p:nvPr/>
        </p:nvSpPr>
        <p:spPr>
          <a:xfrm>
            <a:off x="223920" y="353880"/>
            <a:ext cx="8686800" cy="63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28600" algn="just">
              <a:lnSpc>
                <a:spcPct val="107000"/>
              </a:lnSpc>
              <a:spcBef>
                <a:spcPts val="55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Іншим, не менш важливим за своїм значенням ме­тодом дослідження в географії торгівлі є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ний аналіз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суть якого по­лягає у виділенні окремих структур (функціональної, компонентної, територіа­льної, управлінської, соціальної, економічної та ін.), що дозволяє всебічно ви­вчити всі аспекти функціонування торгівл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lnSpc>
                <a:spcPct val="107000"/>
              </a:lnSpc>
              <a:spcBef>
                <a:spcPts val="55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око застосовуються в географії торгівлі методи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ювання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у т. ч. економіко-математичного, статистичного, картографічного), ранжування, типізації, групування, експертних оцінок, літературно-архів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lnSpc>
                <a:spcPct val="107000"/>
              </a:lnSpc>
              <a:spcBef>
                <a:spcPts val="55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Різноманітні просторові аспекти комерційної діяльності досліджують за до­помогою різноманітних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истичних методі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для вивчення товарних запасів, місткості ринку споживчих товарів, розподілу об'єктів торговельної діяльності за видами, формами, розміщення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lnSpc>
                <a:spcPct val="107000"/>
              </a:lnSpc>
              <a:spcBef>
                <a:spcPts val="55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23920" y="353880"/>
            <a:ext cx="868680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28600" algn="just">
              <a:lnSpc>
                <a:spcPct val="107000"/>
              </a:lnSpc>
              <a:spcBef>
                <a:spcPts val="55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Географія торгівлі широко використовує 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тографічні методи дослідження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з допомогою яких можна одержати інформацію про розташування об’єктів торговельної діяльності в просторі, виявити певні географічні закономірності в цій галузі, вивчити в динаміці ті чи інші процеси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(зміни в розміщенні магазинів, оптових баз, зрушення в рівнях торговельного обслуговування населення, динаміку товарних запасів торгівлі тощ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lnSpc>
                <a:spcPct val="107000"/>
              </a:lnSpc>
              <a:spcBef>
                <a:spcPts val="55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Дослідження окремих сторін комерційної діяльності можливо лише з 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безпосереднього спостереження або польового методу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. Особливістю обстеження території є одним із шляхів достовірності географічного дослідження. Наприклад, вивчення розташування торговельних підприємств у великому місті, особливо дрібнороздрібної або стихійної (неорганізованої) торгівлі, завжди потребує детального обстеження і картографування об’єктів шляхом  безпосереднього спостереже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lnSpc>
                <a:spcPct val="107000"/>
              </a:lnSpc>
              <a:spcBef>
                <a:spcPts val="55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263520" y="669960"/>
            <a:ext cx="8686800" cy="55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2860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ізуючи шляхи сполучення, якими відбувається переміщення товарів від виробників або оптових баз до споживачів (роздрібної торгівлі), можна ви­користати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граф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що дозволяє виявити найоптимальніші шляхи транспортування, оцінити вигідність розташування тих чи інших торговельних районів, торговельних баз 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ервинного аналізу зібраної статистичної інформації можна використа­ти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оаналітичний метод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застосування різного роду графіків, діаграм, які дають наочне уявлення про динаміку певних явищ та їх співвіднош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2860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Зміст, об'єкт, предмет географії торгів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0" y="1523880"/>
            <a:ext cx="868680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15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Arial"/>
                <a:ea typeface="Calibri"/>
              </a:rPr>
              <a:t>Географія торгівлі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– галузь економічної та соціальної географії, що вивчає чинники, принципи і закономірності територіальної організації торгівлі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 (за Я.Б. Олійником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  <a:ea typeface="Calibri"/>
              </a:rPr>
              <a:t>Об’єктом вивчення </a:t>
            </a:r>
            <a:r>
              <a:rPr b="1" lang="uk-UA" sz="2200" spc="-1" strike="noStrike">
                <a:solidFill>
                  <a:srgbClr val="0070c0"/>
                </a:solidFill>
                <a:latin typeface="Arial"/>
                <a:ea typeface="Calibri"/>
              </a:rPr>
              <a:t>географії торгівлі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є торгівля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(за Я.Б. Олійником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, торгівля як галузь господарства (В.І. Дорошенк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Спільний обєкт дослідження мають економіка торгівлі, організація і техніка торгівлі, менеджмент торгівлі та інші дисципліни, які відрізняються предметом дослідження.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Зазначеними науками досліджуються господарські, фінансові аспекти діяльності торговельних підприємств, вивчаються соціальні потреби, аналізується державний механізм управління підприємствами тощ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223920" y="353880"/>
            <a:ext cx="8686800" cy="61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15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Calibri"/>
              </a:rPr>
              <a:t>Предметом вивчення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  <a:ea typeface="Calibri"/>
              </a:rPr>
              <a:t>географії торгівл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є територіальна організація торгівлі (за Я.Б. Олійником), територіальний (просторовий) аспект торговельної діяльності й обслуговування населенн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В.І. Дорошенк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ослідження діяльності торговельних підприємств в територіальному аспекті відповідно до розселення населення та задоволення потреб населення у товарах народного спожив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еографія торгівлі досліджує територіальні відмінності в рівнях розвитку торгівлі й торговельного обслуговування населення, чинники, що впливають на територіальну організацію галузі, типологію торговельних центрів, формування товарних рин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Зміст, об'єкт, предмет маркетингової географ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0" y="1523880"/>
            <a:ext cx="868680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285480" algn="just">
              <a:spcBef>
                <a:spcPts val="550"/>
              </a:spcBef>
              <a:spcAft>
                <a:spcPts val="10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Arial"/>
                <a:ea typeface="Calibri"/>
              </a:rPr>
              <a:t>Маркетингова географія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– це прикладна суспільно-географічна наука, що вивчає закономірності територіальної організації виробничо-споживчого комплексу та його особливостей різних країн і регіонів» (за П. Черномазом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spcBef>
                <a:spcPts val="550"/>
              </a:spcBef>
              <a:spcAft>
                <a:spcPts val="10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Arial"/>
                <a:ea typeface="Calibri"/>
              </a:rPr>
              <a:t>Об’єктом дослідження маркетингової географії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є виробничо-споживчий комплекс, що складається з виробників товарів і послуг, їх споживчих каналів розподілу, ринків збуту та території, вміщує усі згадані компонен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spcBef>
                <a:spcPts val="550"/>
              </a:spcBef>
              <a:spcAft>
                <a:spcPts val="10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Arial"/>
                <a:ea typeface="Calibri"/>
              </a:rPr>
              <a:t>Предметом дослідження маркетингової географії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є територіальна організація виробничо-споживчого комплекс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0" y="361800"/>
            <a:ext cx="868680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48920" algn="just">
              <a:spcBef>
                <a:spcPts val="601"/>
              </a:spcBef>
              <a:spcAft>
                <a:spcPts val="10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Arial"/>
                <a:ea typeface="Calibri"/>
              </a:rPr>
              <a:t>Метою досліджень маркетингової географі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виступає оптимізація взаємодії між виробниками товарів та послуг і споживачами, що їх потребують, тобто отримання виробником прибутку за умови якісного задоволення потреб спожив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spcBef>
                <a:spcPts val="601"/>
              </a:spcBef>
              <a:spcAft>
                <a:spcPts val="10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Arial"/>
                <a:ea typeface="Calibri"/>
              </a:rPr>
              <a:t>Завданнями маркетингової географі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є збір, первинна обробка, аналіз інформації, ідентифікація територіальних диспропорцій маркетингового середовища (споживчих запитів та уподобань, попиту і пропозиції, асортименту товарів та послуг, рівня конкуренції тощо), вибір територіально оптимальних каналів товаропросування, оцінка ефективності реклами на різних територіях, визначення оптимальних місць збуту товарів та послуг, дослідження регіонального маркети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" y="1382760"/>
            <a:ext cx="868680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Виділяють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2 розділ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– географія внутрішньої торгівлі та географія зовнішньої торгівл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Географія внутрішньої торгівл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вивчає систему купівлі і продажу товарів на внутрішньому ринку країни (за Я.Б. Олій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еографія зовн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ішньої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торгівл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вивчає механізм та терито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іаль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організацію експорту та імпорту країни, форми ек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омічн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зв’язків на основі міжна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од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терито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іаль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поділу прац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(за Я.Б. Олійником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осторовий прояв експорту та імпорту (предмет), а також пов’язані із зовнішньою торгівлею (об’єкт) соціально-економічні заходи краї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(за І.С. Савчу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800280" y="3049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. Аспекти вивчення географії торгівл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52280" y="152280"/>
            <a:ext cx="8458200" cy="74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еографія внутрішньої торгівлі має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два аспекти вивченн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як частки суспільного відтворення і як галузі сфери обслугов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ерший аспек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ередбачає вивчення торгівлі як економічної передумови розвитку й розміщення окремих галузей господарства (промисловості, сільського господарства, транспорту) щодо її впливу на розвиток і територіальну організацію цих галузей, формування товарних ресурсів торгівлі та міжгалузевих і регіональних звязків торгівл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Другий аспек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географічне дослідження торгівлі як галузі сфери обслуговування – включає вивчення закономірностей, принципів і факторів розміщення торгівлі в умовах становлення ринкових відносин, регіональних особливостей і територіальної організації торгівлі, формування територіальних торговельних систем і елементів їх територіальної структури - торговельно-господарських зон, районів, центрів, торговельного обслуговування населення різних рангів у містах і сільській місцев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343080" y="533520"/>
            <a:ext cx="8458200" cy="71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15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На сучас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ному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етапі територ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іальні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аспекти дослідж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енн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торгівлі проводять з метою розроблення рац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іональної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регіонал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ьної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торг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овельної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політики, вирівнювання регіонал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ьних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рівнів розвитку торгівлі, створення високорозвиненої сфери торг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овельного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обслуговування насел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енн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Перспектив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ний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розвиток і удосконалення торгівлі проводитиметься шляхом зміцнення матеріал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ьної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бази та реформування екон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омічних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відносин у галузі, покращення якісних характеристик її функціонування, підвищення організац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ійно-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тех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нічного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процесу, зміцнення взаємозв’язків промисловості та торгівлі, оптових і роздріб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них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підприємств, удосконалення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і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нфраструктур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товар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Calibri"/>
              </a:rPr>
              <a:t>них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Calibri"/>
              </a:rPr>
              <a:t> ринків тощ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15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вел Кобылин</cp:lastModifiedBy>
  <dcterms:modified xsi:type="dcterms:W3CDTF">2024-09-10T19:28:22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